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3C1A4-B9E7-46E8-89B7-A948989C6E4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4562C-5267-4AEC-8752-C82F9BA6F7F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88302-E904-4927-AB6B-B4EC0117C04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A823B-1DF3-44A7-925F-44FAA895819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54A00-0CFA-4F8E-8930-23D00A886AB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FA513-733E-4B95-82C0-40EA44FE190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značba mest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3F6D8-1405-432A-83E6-4477C137AEC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3E842-6228-49CB-926B-DFA494E6DE0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6A05C-E64B-40DD-A8BB-92040D3C98A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C1D-91A2-4147-BBF7-FF264460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820-BE59-458E-956B-9FC9B49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B58E-4E22-4988-803A-606E1C3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2230-6D79-448F-BF41-EFA8BEC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05D9-6A56-47C7-8C61-838CD28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224F5-8FA7-44D0-8AC8-1543D51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3884A-22B7-4FE5-9C44-6EB4F44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108FA-7FE3-457D-BB31-6090FEA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4C69B-EA48-4796-ACD8-5BAACE25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CAB3E-0193-4600-BAA3-A75C8E7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A78D1-F04F-4963-8F79-09CB68A1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0512B-0A17-46BF-B30E-ED8364F9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0B9-56D7-4A74-A70A-2E49B51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8C9D0-9D38-4B13-94E1-26A1FAE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9FEC2-C825-432E-ADCD-98A2D63B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29EE9-4E0C-4E9E-9435-A092929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97E52-E97D-43AD-8CF5-2A999FE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27076-8550-4EE6-BEF3-F6D2790E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E743C-05D7-4DA3-BFF6-2E22BBB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3526B-50ED-4142-B83C-7028573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7ACD0-FFC4-4242-B39B-05BDE26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4A7C1-4EE8-4579-ACDF-55417209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8DB56-B9DF-4EEB-9876-80D2E2A7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1FF-2C40-45D9-A201-F4105490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01F2B-DC94-490C-BB78-187F9A1F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1B004-E95E-475D-B0B0-5501F83A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4D868-81D1-481B-85AE-BF8ADFFC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8C88D-DB4A-4633-BD6C-9B8F999C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F7E7-3BAB-46F1-BD26-D1095747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F3ECF-7327-4559-81BB-FB94D4EB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B9D29-89C3-421B-BFF9-765C10E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E03D-55E2-4FC7-A2D2-09332551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D502F-B0C5-438E-B28A-E58D4F9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33378-3FD2-4E75-A397-BAE4643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7338-E4B5-4274-BC58-A3FBA671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4C0C3-7A81-4409-9F67-4489D4B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8BD8B-43E3-44A2-8169-7F4EE6EC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459FA-8E05-46FF-8DCA-C6298D9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3060-8AB3-4A84-8BB5-21016C79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8271-7037-4DDE-BB7D-051FB86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F532-B428-438C-97D1-57ABD1B6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B18F-031F-49AD-9817-71CA975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EFD1-8770-417C-95B4-DD9CC876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9CD4-2707-4493-B65D-7864604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8D2-93E9-489A-BA96-B7BA7202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8FCE-9C42-4615-863D-3B75FB3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32C-239A-45BC-8777-04BA57B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9F83-5F6C-4A13-99CA-D17F8B7A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3DA-2052-40AC-AAC5-54A5FB94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29E7-BCD9-41D3-BC7E-BD30E2F5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3A84-79AA-4627-A603-226DD5B2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D83C-CFA9-4F5F-81F4-27388311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6921-2D9B-48C7-8E70-AC6B31AC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46B2-3A84-49FF-BDB4-ED585573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38F7-A663-451B-AA12-A1E0D7CD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922-04BB-43D0-B546-5DA86A9A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8389-28F7-4833-AE96-BA2FCB3C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FE52-F97D-4363-96A5-1400ED55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DBD5-E123-4DF6-8B50-0FF44DB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B785-BDB5-4C65-B65F-064EBBB9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0B09-4752-460E-9BEE-E1B2FB2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7C02-29BF-448A-8045-0390AB3E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EA13-2477-4E6C-9158-187E438F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A657-81D5-4A9A-BA2A-DAE6DE8D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E639-459E-4231-83AB-5C033AA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9ACC-ABD6-436E-BFC7-958E89F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4EE-D1A4-4239-9A18-B6D1EA16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4A9C-03B9-4B04-B61D-2E0838F3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32E5-698D-4251-9259-C4F3DC82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6A34-CBFF-4D00-954A-254C0758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2757-DB0A-470D-BEAF-5730158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470D-9C40-4AE0-BB08-C92B02F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33A3-020B-4A6E-8130-87FCB85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CF5C-9766-404E-8ABC-068E996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F85E-7D51-4131-BF5C-EEA52ED8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CC4D-4C41-42DE-993A-B9D33C91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3403C-23A6-4282-BA60-2C340B8B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8EB-A4F2-4B19-8392-76D1955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6759-5DB9-4588-BAF9-38D29E8F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2A27-31FD-4D8D-8F07-B337651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28EB-2C06-4894-9E5B-52AC3DCB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88B7-3D95-4C61-A1FC-A2AFE83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C04E-2F69-41BC-9302-80077FBD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72A1-231C-41B7-8EB0-EB8BA0B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6CFE3-F01A-4548-83E3-1F4E9D0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0A1E-92E1-4AD3-A03D-B32C6FF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34645-E13D-4087-A2BD-FF36B9CD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E2F60-D6A5-482C-BE8A-FB875005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154-6CC1-4BE1-858E-E8DC353B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5DB2-D3DE-4DBD-B2C6-A0587E78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D1E2-6D64-4C6F-9E79-F2ABF759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E0251-8AAA-4752-A135-8050C12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F85E-F933-4423-956E-A470DDC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BCC9-7082-4129-92D8-CD5A6515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EE68-32D4-4350-973B-D5C9B79C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D53B2-E40A-444F-A3F5-3346C1DA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F801-C887-44CD-AF7C-A0687FF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D365-B620-41F8-AA8B-09900F6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32945-21FA-44A0-9D45-8C1AB7DA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A85-55DD-4865-A04A-F39ABE0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078BB-37D2-4DD0-A1C3-9A0D472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1D854-266A-48B0-A937-7F75461A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10E3-142D-4896-8D58-FDD1A8E5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785D-035D-498C-9AA1-BABE02D1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47B17-EC26-4830-AAC1-2025DB7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0EAAD-F937-4F62-A219-59D1DA2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AB51-83DC-4858-A1D6-F01BD48F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7083-8410-415E-80E8-E2848A7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A4F1-424E-4383-962E-08B0FD8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E9F5D-0BF0-48F6-AE80-22F9EC7A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0E2-5B46-48E9-9D2B-0196D81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29D0C-26D9-4D5E-A9EB-12EC97F4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9797-82FE-4F98-AE18-38F4596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02C4-2BC3-4481-BD55-2533DB7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099BF-EE61-429B-BCC2-98223265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9C1F-D6E8-4AA8-B169-5756F6F4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BBCE8-A8AE-4DDF-9670-17C935E6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C4F4B-48CE-4D99-AEA4-732FB2E5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BC51-D15F-455D-9EFA-7C1D2543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F133D-6E1F-46FB-8C37-1D18FB7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40471-1285-4FF5-806F-DDE82CD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57F-E6FD-482C-A173-2725669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8789-1FFF-426D-98B8-196375A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F1820-39FF-475B-8A2B-48F6DE8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2054-4CBD-483A-849F-845F42B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6D2DA-4566-40AA-99C9-D6AB3CC4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9CE9-89E6-434A-9710-71442CF8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EDC1-E183-4FC8-A426-E3441725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EB6C-8A27-4E93-866F-5685F539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BAA56-7422-4312-B5EB-8C74D30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C6022-C8C9-4BF9-8B12-39B3D6EC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22743-A135-48EB-9955-96F26A61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6C570-488C-4CEA-BB8E-30B878416AB9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8DAA4-CD0F-4C43-BAC8-BFF25F228F89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E22FB-2BEF-4DD5-B998-885060787930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B24D9-928F-42B6-92ED-FE32C477F856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A99BE-9B93-4E40-9CB5-6CF94E53D07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D7612-E645-47B3-9000-EF9A6DC19311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44BD3-63BD-4664-B19B-C9D6E782A5F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392CC-C7DD-46BA-97A1-FFA21D62CBEA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10E5C-CD32-4C27-A76F-B385A6CC3B7F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0B208-1D1C-40C7-B481-32E08A9C61EB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6558E-2114-436F-BEEF-1C85F4E99CB8}" type="slidenum">
              <a:rPr b="0" lang="sl-SI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FINANČNO POSLOVANJE OŠ STIČNA V LETU 20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39640" y="119700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Iz sredstev občinskega proračuna – občine Ivančna Goric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00.438,06 €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94.081,12 € - sanacija prostorov na podružnični šoli Stična – direktno Občina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4.957,20 € - kuhinjska oprema na podružnični šoli Stična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6.209,91 € - preureditev kleti šole v učilnico na podružnični šoli Zagradec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8.597,68 € - nova cisterne za kurilno olje na podružnični šoli Višnja Gora  -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356,20 € - oprema nove učilnice na podružnični šoli v Zagradcu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593,30 € - oprema učilnice na podružnični šoli Višnja Gora – direktno Občin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199,68 € - računalniška oprema za novi učilnici – Zagradec, Višnja Gor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1.163,47 € - nakup računalniške opreme in ureditev dostopnih točk iz naslova projekta SIO202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279,50 € - obnova varnostne razsvetljave na podružnični šoli Kr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državnega proračuna – MIZŠ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79,4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(učila, knjige, učbeniki, strokovna literatura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presežka preteklih let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15.114,71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projekta SIO 2020 (Arnes)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13.267,04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lastnih sredstev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2.490,05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šolskega sklad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5.676,07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d0d0d"/>
                </a:solidFill>
                <a:latin typeface="Gill Sans MT"/>
              </a:rPr>
              <a:t>VIRI ZA NABAVO SREDSTE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0920" y="1988640"/>
            <a:ext cx="7705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uporabnin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889,39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donacije Spar – knjižnično gradivo za podružnično šolo Ambrus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382,6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Iz sredstev tripartitne pogodbe MIZŠ – Arnes – OŠ Stična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7.886,00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Arnes - donacija prenosnih računalnikov za VIZ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12.648,68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Fundacija Rok – donacija prenosnih računalnikov za učence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5.134,36 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– 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olanje na daljav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ravokotnik 2"/>
          <p:cNvSpPr/>
          <p:nvPr/>
        </p:nvSpPr>
        <p:spPr>
          <a:xfrm>
            <a:off x="684360" y="2708280"/>
            <a:ext cx="770400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z sredstev presežka prihodkov nad odhodki preteklih let, ki so bila namenjena vzdrževalnim delom je bilo  letu 2020 izvedeno akustična izolacija stropa v hodniku na matični šoli v vrednosti 16.896,98 €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VEČJE VZDRŽEVALNO D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ravokotnik 2"/>
          <p:cNvSpPr/>
          <p:nvPr/>
        </p:nvSpPr>
        <p:spPr>
          <a:xfrm>
            <a:off x="611280" y="2060640"/>
            <a:ext cx="77770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 letu 2020 je bilo poslovanje Osnovne šole Stična naslednj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HODKI so znašali 6.331.440,64 €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DHODKI  so znašali 6.287.719,78 €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kar pomeni, da je bil ugotovljen presežek prihodkov nad odhodki v vrednosti 43.720,86 €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ravokotnik 2"/>
          <p:cNvSpPr/>
          <p:nvPr/>
        </p:nvSpPr>
        <p:spPr>
          <a:xfrm>
            <a:off x="611280" y="2106720"/>
            <a:ext cx="77770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HODKI so pridobljeni iz več virov, njihova sestava pa je v odstotkih nasledn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ržavni proračun (MIZŠ)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86,53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bčinski proračun (občina Iv. Gorica)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6,14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spevek starš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4,80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žna dejavno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0,38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stali vir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2,15 %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drugi uporabniki javnih sredstev, Vrtec Iv. G. (plačilo malic na Krki in v Zagradcu)…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PRIHOD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3" name="Grafikon 4"/>
          <p:cNvGraphicFramePr/>
          <p:nvPr/>
        </p:nvGraphicFramePr>
        <p:xfrm>
          <a:off x="1042920" y="981000"/>
          <a:ext cx="766296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66296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Grafikon 5"/>
          <p:cNvGraphicFramePr/>
          <p:nvPr/>
        </p:nvGraphicFramePr>
        <p:xfrm>
          <a:off x="1278000" y="717480"/>
          <a:ext cx="6872400" cy="492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6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8000" y="717480"/>
                    <a:ext cx="68724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ravokotnik 2"/>
          <p:cNvSpPr/>
          <p:nvPr/>
        </p:nvSpPr>
        <p:spPr>
          <a:xfrm>
            <a:off x="611280" y="2106720"/>
            <a:ext cx="777708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TVA iz državnega proračuna (MIZŠ) so namenjena pokrivanju naslednjih stroškov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č in prispev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94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nih stroš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6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materialni stroški v skladu z normativi in standardi, nabava učil in učnih pripomočkov,  izobraževanje delavcev, zdravstveni pregledi zaposlenih, delno pokrivanje ekskurzij učencev, subvencioniranje šolske prehrane, sofinanciranje ene šole v naravi, nabava učbenikov za šolski skla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ill Sans MT"/>
              </a:rPr>
              <a:t>PRIHODKI IZ DRŽAVNEGA PRORAČU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20" name="Grafikon 4"/>
          <p:cNvGraphicFramePr/>
          <p:nvPr/>
        </p:nvGraphicFramePr>
        <p:xfrm>
          <a:off x="826920" y="692280"/>
          <a:ext cx="766296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1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92280"/>
                    <a:ext cx="766296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Grafikon 5"/>
          <p:cNvGraphicFramePr/>
          <p:nvPr/>
        </p:nvGraphicFramePr>
        <p:xfrm>
          <a:off x="1463760" y="1434960"/>
          <a:ext cx="6543720" cy="472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3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3760" y="1434960"/>
                    <a:ext cx="6543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14520" y="4363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SESTAVA PRIHODKOV DRŽAVNEGA PRORAČUNA – </a:t>
            </a:r>
            <a:br>
              <a:rPr sz="2500"/>
            </a:b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MINISTRSTVA ZA IZOBRAŽEVANJE, ZNANOST IN Š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ravokotnik 2"/>
          <p:cNvSpPr/>
          <p:nvPr/>
        </p:nvSpPr>
        <p:spPr>
          <a:xfrm>
            <a:off x="755640" y="1854360"/>
            <a:ext cx="777708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TVA iz občinskega proračuna občine Ivančna Gorica so namenjena pokrivanju naslednjih stroškov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nih stroš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9 %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oškov uporabe prostora in opreme – zavarovanje objektov in opreme, elektrika, voda, odvoz smeti, varovanje objekta, vzdrževanje dvigala, kurjava, material in storitve za vzdrževanje prostora, gorivo in stroški vzdrževanja avtomobila za dodatne prevoze učencev – Hyunda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č in prispevkov za določen delež zaposlenih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SVA ZA PREVOZE UČENCEV V ŠOLO IN IZ ŠOLE PA ZAGOTAVLJA OBČINA DIREKTNO PREKO IZVEDENEGA JAVNEGA NAROČIL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960"/>
            <a:ext cx="6442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PRIHODKI IZ OBČINSKEGA PRORAČUNA – OBČINA IVANČNA GORIC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28" name="Grafikon 4"/>
          <p:cNvGraphicFramePr/>
          <p:nvPr/>
        </p:nvGraphicFramePr>
        <p:xfrm>
          <a:off x="863640" y="692280"/>
          <a:ext cx="766296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9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692280"/>
                    <a:ext cx="766296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Grafikon 5"/>
          <p:cNvGraphicFramePr/>
          <p:nvPr/>
        </p:nvGraphicFramePr>
        <p:xfrm>
          <a:off x="1857240" y="1865160"/>
          <a:ext cx="5573880" cy="391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865160"/>
                    <a:ext cx="55738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14520" y="43632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Gill Sans MT"/>
              </a:rPr>
              <a:t>SESTAVA PRIHODKOV OBČINSKEGA PRORAČUNA – </a:t>
            </a:r>
            <a:br>
              <a:rPr sz="2500"/>
            </a:b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OBČINE IVANČNA GOR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2"/>
          <p:cNvSpPr/>
          <p:nvPr/>
        </p:nvSpPr>
        <p:spPr>
          <a:xfrm>
            <a:off x="-1484280" y="-3903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34" name="Grafikon 4"/>
          <p:cNvGraphicFramePr/>
          <p:nvPr/>
        </p:nvGraphicFramePr>
        <p:xfrm>
          <a:off x="1042920" y="981000"/>
          <a:ext cx="766296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Grafikon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66296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Grafikon 5"/>
          <p:cNvGraphicFramePr/>
          <p:nvPr/>
        </p:nvGraphicFramePr>
        <p:xfrm>
          <a:off x="1136520" y="912960"/>
          <a:ext cx="6389640" cy="479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Grafikon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912960"/>
                    <a:ext cx="638964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56:02Z</dcterms:created>
  <dc:creator>Zajc</dc:creator>
  <dc:description/>
  <dc:language>en-US</dc:language>
  <cp:lastModifiedBy>Melita</cp:lastModifiedBy>
  <dcterms:modified xsi:type="dcterms:W3CDTF">2021-03-24T10:16:11Z</dcterms:modified>
  <cp:revision>146</cp:revision>
  <dc:subject/>
  <dc:title>POROČILO  o realizaciji LDN za  šol. l. 2010/2011</dc:title>
</cp:coreProperties>
</file>